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4EF1-C143-470D-BC8B-22183BE2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C932-ADDA-45E4-A704-5C7B6620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CDBA-E4DE-45D1-955C-F106748B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6341-6633-468E-B9DE-557864FC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B9E5-F901-4F71-84E5-6D21A026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E3FE-49D1-41D4-8A46-B159E32D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76A4-F140-4779-AFCB-B05AE893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0B16-CC9E-4CAE-8AC4-D08FAB70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0827-E3DD-4187-96B5-2326B934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3634-100D-4CCE-963B-4198385B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E958-8B6B-4663-8FF1-F94E2DB6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30F7-FF99-46C2-B06B-99EE9190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C108-48B4-4781-A9E9-0C63F98E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D3D9-3ACF-454C-B8F4-D0FDAFCC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C451-35C5-4719-BCAC-B89DFC1D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B103-37F8-4E01-B37D-F571B532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48C9-B854-439B-8218-2DC94513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3D5A-7D05-4510-A851-5FCFA761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CC26-0056-4968-9C3D-D187EDB5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1269-718A-4023-A564-AC4E96A2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2664-385C-458B-88E0-B9C10FE8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61D6-DC07-4CE3-80AB-F6BD2A80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D35C-8F8A-4E07-9A8C-7E515AED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FBF8-BC5C-466A-B3BF-4934E37E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7C2B-2152-43E0-A7F5-4A216B73F5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4509-7169-4EDB-BFFB-6F4F864E24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21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dfdef6"/>
                </a:solidFill>
                <a:uFillTx/>
                <a:latin typeface="Arial"/>
              </a:rPr>
              <a:t>Лабораторная посуда общего назнач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зновидности пробирок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Picture 4" descr="апро"/>
          <p:cNvPicPr/>
          <p:nvPr/>
        </p:nvPicPr>
        <p:blipFill>
          <a:blip r:embed="rId1"/>
          <a:stretch/>
        </p:blipFill>
        <p:spPr>
          <a:xfrm>
            <a:off x="1905120" y="838080"/>
            <a:ext cx="2058840" cy="13669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бьти"/>
          <p:cNvPicPr/>
          <p:nvPr/>
        </p:nvPicPr>
        <p:blipFill>
          <a:blip r:embed="rId2"/>
          <a:stretch/>
        </p:blipFill>
        <p:spPr>
          <a:xfrm>
            <a:off x="2759040" y="2438280"/>
            <a:ext cx="1736640" cy="18288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логрнп"/>
          <p:cNvPicPr/>
          <p:nvPr/>
        </p:nvPicPr>
        <p:blipFill>
          <a:blip r:embed="rId3"/>
          <a:stretch/>
        </p:blipFill>
        <p:spPr>
          <a:xfrm>
            <a:off x="6629400" y="78408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орп"/>
          <p:cNvPicPr/>
          <p:nvPr/>
        </p:nvPicPr>
        <p:blipFill>
          <a:blip r:embed="rId4"/>
          <a:stretch/>
        </p:blipFill>
        <p:spPr>
          <a:xfrm>
            <a:off x="1676520" y="3784680"/>
            <a:ext cx="914400" cy="22352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центриф"/>
          <p:cNvPicPr/>
          <p:nvPr/>
        </p:nvPicPr>
        <p:blipFill>
          <a:blip r:embed="rId5"/>
          <a:stretch/>
        </p:blipFill>
        <p:spPr>
          <a:xfrm>
            <a:off x="7020000" y="441972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гн"/>
          <p:cNvPicPr/>
          <p:nvPr/>
        </p:nvPicPr>
        <p:blipFill>
          <a:blip r:embed="rId6"/>
          <a:stretch/>
        </p:blipFill>
        <p:spPr>
          <a:xfrm>
            <a:off x="5943600" y="2743200"/>
            <a:ext cx="1981080" cy="15224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2"/>
          <p:cNvSpPr/>
          <p:nvPr/>
        </p:nvSpPr>
        <p:spPr>
          <a:xfrm>
            <a:off x="289800" y="14079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им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839160" y="297180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4041360" y="19051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ная со шлиф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440" y="42670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лорин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6"/>
          <p:cNvSpPr/>
          <p:nvPr/>
        </p:nvSpPr>
        <p:spPr>
          <a:xfrm>
            <a:off x="4497840" y="33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отво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8"/>
          <p:cNvSpPr/>
          <p:nvPr/>
        </p:nvSpPr>
        <p:spPr>
          <a:xfrm>
            <a:off x="5107320" y="46483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нтрифуж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19" descr="imagesCAZDR4NN"/>
          <p:cNvPicPr/>
          <p:nvPr/>
        </p:nvPicPr>
        <p:blipFill>
          <a:blip r:embed="rId7"/>
          <a:stretch/>
        </p:blipFill>
        <p:spPr>
          <a:xfrm>
            <a:off x="4191120" y="5349960"/>
            <a:ext cx="2361960" cy="12794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20"/>
          <p:cNvSpPr/>
          <p:nvPr/>
        </p:nvSpPr>
        <p:spPr>
          <a:xfrm>
            <a:off x="2287080" y="64911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микропр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496440"/>
            <a:ext cx="9144000" cy="25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робирки применяются для различных аналитических работ, при перегонке, для титрования и проведения химических реакц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Picture 5" descr="ьтрп"/>
          <p:cNvPicPr/>
          <p:nvPr/>
        </p:nvPicPr>
        <p:blipFill>
          <a:blip r:embed="rId1"/>
          <a:stretch/>
        </p:blipFill>
        <p:spPr>
          <a:xfrm>
            <a:off x="2438280" y="3211560"/>
            <a:ext cx="4267440" cy="3336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Химические стаканы </a:t>
            </a: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- это низкие или высокие цилиндры с носиком или без него, плоскодонные или круглодонные. Их изготавливают из разных сортов стекла и фарфора, а также полимерных материалов. Они бывают тонкостенными и толстостенными, мерными и простыми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Picture 5" descr="льорп"/>
          <p:cNvPicPr/>
          <p:nvPr/>
        </p:nvPicPr>
        <p:blipFill>
          <a:blip r:embed="rId1"/>
          <a:stretch/>
        </p:blipFill>
        <p:spPr>
          <a:xfrm>
            <a:off x="0" y="3429000"/>
            <a:ext cx="2200320" cy="2514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типма"/>
          <p:cNvPicPr/>
          <p:nvPr/>
        </p:nvPicPr>
        <p:blipFill>
          <a:blip r:embed="rId2"/>
          <a:stretch/>
        </p:blipFill>
        <p:spPr>
          <a:xfrm>
            <a:off x="2590920" y="5022720"/>
            <a:ext cx="3124080" cy="18352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9шол"/>
          <p:cNvPicPr/>
          <p:nvPr/>
        </p:nvPicPr>
        <p:blipFill>
          <a:blip r:embed="rId3"/>
          <a:stretch/>
        </p:blipFill>
        <p:spPr>
          <a:xfrm>
            <a:off x="5648400" y="3200400"/>
            <a:ext cx="3495600" cy="1676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Стакан химический высокий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8" name="Picture 5" descr="шгнрп"/>
          <p:cNvPicPr/>
          <p:nvPr/>
        </p:nvPicPr>
        <p:blipFill>
          <a:blip r:embed="rId1"/>
          <a:stretch/>
        </p:blipFill>
        <p:spPr>
          <a:xfrm>
            <a:off x="6934320" y="457200"/>
            <a:ext cx="1879560" cy="28195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6"/>
          <p:cNvSpPr/>
          <p:nvPr/>
        </p:nvSpPr>
        <p:spPr>
          <a:xfrm>
            <a:off x="3220200" y="3886200"/>
            <a:ext cx="58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кан высокий с носик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7" descr="логне"/>
          <p:cNvPicPr/>
          <p:nvPr/>
        </p:nvPicPr>
        <p:blipFill>
          <a:blip r:embed="rId2"/>
          <a:stretch/>
        </p:blipFill>
        <p:spPr>
          <a:xfrm>
            <a:off x="685800" y="3206880"/>
            <a:ext cx="2011320" cy="3267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таканы химические низкой форм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2" name="Picture 5" descr="прооргнпе"/>
          <p:cNvPicPr/>
          <p:nvPr/>
        </p:nvPicPr>
        <p:blipFill>
          <a:blip r:embed="rId1"/>
          <a:stretch/>
        </p:blipFill>
        <p:spPr>
          <a:xfrm>
            <a:off x="3672000" y="1981080"/>
            <a:ext cx="4719600" cy="1791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шг7неп"/>
          <p:cNvPicPr/>
          <p:nvPr/>
        </p:nvPicPr>
        <p:blipFill>
          <a:blip r:embed="rId2"/>
          <a:stretch/>
        </p:blipFill>
        <p:spPr>
          <a:xfrm>
            <a:off x="2724120" y="4103640"/>
            <a:ext cx="4210200" cy="25812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ьорп"/>
          <p:cNvPicPr/>
          <p:nvPr/>
        </p:nvPicPr>
        <p:blipFill>
          <a:blip r:embed="rId3"/>
          <a:stretch/>
        </p:blipFill>
        <p:spPr>
          <a:xfrm>
            <a:off x="0" y="1179360"/>
            <a:ext cx="3470400" cy="2468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Химические стаканы - применяются для разнообразных химических работ: перемешивания, нагревания при помощи водяной бани, песочной бани или газовой горелки через асбестовую прокладку и т. п</a:t>
            </a:r>
            <a:r>
              <a:rPr b="0" i="1" lang="ru-RU" sz="4000" spc="-1" strike="noStrike">
                <a:solidFill>
                  <a:srgbClr val="dfdef6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ит"/>
          <p:cNvPicPr/>
          <p:nvPr/>
        </p:nvPicPr>
        <p:blipFill>
          <a:blip r:embed="rId1"/>
          <a:stretch/>
        </p:blipFill>
        <p:spPr>
          <a:xfrm>
            <a:off x="609480" y="4572000"/>
            <a:ext cx="1623960" cy="19810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митоь"/>
          <p:cNvPicPr/>
          <p:nvPr/>
        </p:nvPicPr>
        <p:blipFill>
          <a:blip r:embed="rId2"/>
          <a:stretch/>
        </p:blipFill>
        <p:spPr>
          <a:xfrm>
            <a:off x="533520" y="2209680"/>
            <a:ext cx="1876320" cy="1411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пропр"/>
          <p:cNvPicPr/>
          <p:nvPr/>
        </p:nvPicPr>
        <p:blipFill>
          <a:blip r:embed="rId3"/>
          <a:stretch/>
        </p:blipFill>
        <p:spPr>
          <a:xfrm>
            <a:off x="2362320" y="3352680"/>
            <a:ext cx="1562040" cy="1562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гне"/>
          <p:cNvPicPr/>
          <p:nvPr/>
        </p:nvPicPr>
        <p:blipFill>
          <a:blip r:embed="rId4"/>
          <a:stretch/>
        </p:blipFill>
        <p:spPr>
          <a:xfrm>
            <a:off x="4724280" y="3581280"/>
            <a:ext cx="2210040" cy="12956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8" descr="ьтима"/>
          <p:cNvPicPr/>
          <p:nvPr/>
        </p:nvPicPr>
        <p:blipFill>
          <a:blip r:embed="rId5"/>
          <a:stretch/>
        </p:blipFill>
        <p:spPr>
          <a:xfrm>
            <a:off x="3505320" y="4648320"/>
            <a:ext cx="2057400" cy="20271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9"/>
          <p:cNvSpPr/>
          <p:nvPr/>
        </p:nvSpPr>
        <p:spPr>
          <a:xfrm>
            <a:off x="304920" y="228600"/>
            <a:ext cx="883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уда химическая лабораторная предназначена для проведения препаративных химико-аналитических работ. Лабораторная посуда устойчива к воздействию химических реагентов, легко отмывается от загрязнений, а материал ее термоустойчив и обладает малым коэффициентом теплового расшир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10" descr="ьтрп"/>
          <p:cNvPicPr/>
          <p:nvPr/>
        </p:nvPicPr>
        <p:blipFill>
          <a:blip r:embed="rId6"/>
          <a:stretch/>
        </p:blipFill>
        <p:spPr>
          <a:xfrm>
            <a:off x="6629400" y="4572000"/>
            <a:ext cx="2514600" cy="19670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1" descr="лор"/>
          <p:cNvPicPr/>
          <p:nvPr/>
        </p:nvPicPr>
        <p:blipFill>
          <a:blip r:embed="rId7"/>
          <a:stretch/>
        </p:blipFill>
        <p:spPr>
          <a:xfrm>
            <a:off x="6705720" y="1981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миоо"/>
          <p:cNvPicPr/>
          <p:nvPr/>
        </p:nvPicPr>
        <p:blipFill>
          <a:blip r:embed="rId8"/>
          <a:stretch/>
        </p:blipFill>
        <p:spPr>
          <a:xfrm>
            <a:off x="3657600" y="2133720"/>
            <a:ext cx="2362320" cy="1533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dfdef6"/>
                </a:solidFill>
                <a:latin typeface="Arial"/>
              </a:rPr>
              <a:t>Спасибо за внимание!!!</a:t>
            </a:r>
            <a:endParaRPr b="0" lang="en-US" sz="8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Цель занятия:</a:t>
            </a:r>
            <a:br>
              <a:rPr sz="4400"/>
            </a:b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знакомиться с лабораторной посудой общего назначения.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К лабораторной посуде общего назначения относятся те предметы, которые всегда должны быть в лаборатории, и без которых нельзя провести большинство работ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5" descr="тимр"/>
          <p:cNvPicPr/>
          <p:nvPr/>
        </p:nvPicPr>
        <p:blipFill>
          <a:blip r:embed="rId1"/>
          <a:stretch/>
        </p:blipFill>
        <p:spPr>
          <a:xfrm>
            <a:off x="1806480" y="2362320"/>
            <a:ext cx="5531040" cy="4238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акими являются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и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ро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к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сталлиза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7" descr="лшогр"/>
          <p:cNvPicPr/>
          <p:nvPr/>
        </p:nvPicPr>
        <p:blipFill>
          <a:blip r:embed="rId6"/>
          <a:stretch/>
        </p:blipFill>
        <p:spPr>
          <a:xfrm>
            <a:off x="3733920" y="18288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7692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</a:rPr>
              <a:t>Колб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— стеклянный сосуд с круглым или плоским дном, обычно с узким длинным горлом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Picture 5" descr="про"/>
          <p:cNvPicPr/>
          <p:nvPr/>
        </p:nvPicPr>
        <p:blipFill>
          <a:blip r:embed="rId1"/>
          <a:stretch/>
        </p:blipFill>
        <p:spPr>
          <a:xfrm>
            <a:off x="5638680" y="1260360"/>
            <a:ext cx="3505320" cy="4530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Классификация колб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форме: круглодонные, плоскодонные, остродонны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типу горла: с коническими шлифами, с цилиндрическими шлифами, с простым горлом под резиновую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к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емкости: от 5 мл до 50 000 мл (50 литров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виду материала: стеклянные, кварцевые, металлическ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термической устойчивости стекла: термостойкие, нетермостойк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назначению: мерные колбы, колбы-реакторы, колбы-прием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щшгнрп"/>
          <p:cNvPicPr/>
          <p:nvPr/>
        </p:nvPicPr>
        <p:blipFill>
          <a:blip r:embed="rId1"/>
          <a:stretch/>
        </p:blipFill>
        <p:spPr>
          <a:xfrm>
            <a:off x="3733920" y="4267080"/>
            <a:ext cx="2100240" cy="25909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гнрп"/>
          <p:cNvPicPr/>
          <p:nvPr/>
        </p:nvPicPr>
        <p:blipFill>
          <a:blip r:embed="rId2"/>
          <a:stretch/>
        </p:blipFill>
        <p:spPr>
          <a:xfrm>
            <a:off x="2362320" y="19051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горнп"/>
          <p:cNvPicPr/>
          <p:nvPr/>
        </p:nvPicPr>
        <p:blipFill>
          <a:blip r:embed="rId3"/>
          <a:stretch/>
        </p:blipFill>
        <p:spPr>
          <a:xfrm>
            <a:off x="609480" y="3657600"/>
            <a:ext cx="2057400" cy="28195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епи"/>
          <p:cNvPicPr/>
          <p:nvPr/>
        </p:nvPicPr>
        <p:blipFill>
          <a:blip r:embed="rId4"/>
          <a:stretch/>
        </p:blipFill>
        <p:spPr>
          <a:xfrm>
            <a:off x="457200" y="228600"/>
            <a:ext cx="1852560" cy="25146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кам"/>
          <p:cNvPicPr/>
          <p:nvPr/>
        </p:nvPicPr>
        <p:blipFill>
          <a:blip r:embed="rId5"/>
          <a:stretch/>
        </p:blipFill>
        <p:spPr>
          <a:xfrm>
            <a:off x="6172200" y="2895480"/>
            <a:ext cx="2546280" cy="28958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" descr="кенргошл"/>
          <p:cNvPicPr/>
          <p:nvPr/>
        </p:nvPicPr>
        <p:blipFill>
          <a:blip r:embed="rId6"/>
          <a:stretch/>
        </p:blipFill>
        <p:spPr>
          <a:xfrm>
            <a:off x="5257800" y="0"/>
            <a:ext cx="2962440" cy="218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Применение колб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Колбы применяются в лабораториях в качестве реакционных сосудов. Существуют также специальные мерные колбы для приготовления с высокой точностью аналитических растворов.</a:t>
            </a:r>
            <a:br>
              <a:rPr sz="3600"/>
            </a:b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Для подогревания колб в лабораториях и в химических производствах используют специализированные и универсальные колбонагреватели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Arial"/>
              </a:rPr>
              <a:t>Пробирка</a:t>
            </a: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 - короткая стеклянная трубка, запаянная с одного конца, используемая в лабораторной практике.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Picture 5" descr="ть"/>
          <p:cNvPicPr/>
          <p:nvPr/>
        </p:nvPicPr>
        <p:blipFill>
          <a:blip r:embed="rId1"/>
          <a:stretch/>
        </p:blipFill>
        <p:spPr>
          <a:xfrm>
            <a:off x="2438280" y="2127240"/>
            <a:ext cx="4267440" cy="4378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40:50Z</dcterms:created>
  <dc:creator>User</dc:creator>
  <dc:description/>
  <dc:language>en-US</dc:language>
  <cp:lastModifiedBy>Пользователь</cp:lastModifiedBy>
  <dcterms:modified xsi:type="dcterms:W3CDTF">2013-09-09T05:48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